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3955-60D0-4A14-B327-160A4F55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48B-A09E-4792-A2D1-17A2A94B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38E-32A9-49CA-8243-D8565300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20F1-1E96-43E7-B96D-2F61F9DC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C81A-E740-4CA4-B9B7-FAFB467D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5534-8BF2-47FE-8F4D-AE31C745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6FC-8A45-4B63-ADC0-1F196A12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983-F189-425C-BE76-CF9696C1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19D-E881-497C-BBE5-7D9F0A16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7588-81AF-4D03-BBAE-87508069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76C4-293E-469F-9A7B-DB906FC8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03C7-FD87-4C2A-A45E-B73E13CD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50000">
              <a:srgbClr val="000000"/>
            </a:gs>
            <a:gs pos="100000">
              <a:srgbClr val="8c3d9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D71C-5553-4F74-A76C-0A08C4744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22.cooltext.com/d.php?renderid=665729472&amp;extension=pn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northdakota.shtml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enchantedlearning.com/usa/states/northdakota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flags/northdakota/northdakotaflag.s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50000">
              <a:srgbClr val="000000"/>
            </a:gs>
            <a:gs pos="100000">
              <a:srgbClr val="8c3d9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19920" y="419112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Nick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3/19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Per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Com.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838080"/>
            <a:ext cx="7467480" cy="1787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3520" y="3048120"/>
            <a:ext cx="3809880" cy="3465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65451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105520" y="609480"/>
            <a:ext cx="95040" cy="12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486400" y="5943600"/>
            <a:ext cx="3657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states,</a:t>
            </a: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</a:rPr>
              <a:t> North Dakota stat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</a:rPr>
              <a:t>song,</a:t>
            </a: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4/10/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ww.50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50000">
              <a:srgbClr val="000000"/>
            </a:gs>
            <a:gs pos="100000">
              <a:srgbClr val="8c3d9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-11160"/>
            <a:ext cx="8610480" cy="6819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apital: Bismar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Population: 6422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Date Entered: Nov. 2 18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Number Entered: 39/40 (Same day as South Dako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tto: Liberty and union, Now and forever, one and in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Nickname: Peace/ Garden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lower: Wild Prairie 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Bird: Western Meadowl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ong: North Dakota Hy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eaning: Sioux Indian for Fri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Largest city: F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ree: American E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Beverage: Mi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50000">
              <a:srgbClr val="000000"/>
            </a:gs>
            <a:gs pos="100000">
              <a:srgbClr val="8c3d9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0"/>
            <a:ext cx="7543800" cy="5408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410080"/>
            <a:ext cx="3429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</a:rPr>
              <a:t>North Dakota</a:t>
            </a: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,3/21/2012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northdakot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55627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The Missouri river runs into Lake Sakakaw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50000">
              <a:srgbClr val="000000"/>
            </a:gs>
            <a:gs pos="100000">
              <a:srgbClr val="8c3d9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867280" cy="4602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457200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Enchan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learning, </a:t>
            </a: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</a:rPr>
              <a:t>North Dakota Flag</a:t>
            </a: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,3/21/20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ttp://www.enchantedlearning.com/usa/states/northdak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The flag is a bald eagle  holding 7 arrows and an olive bra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50000">
              <a:srgbClr val="000000"/>
            </a:gs>
            <a:gs pos="100000">
              <a:srgbClr val="8c3d9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5991120" cy="3396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520" y="5791320"/>
            <a:ext cx="80769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FossilMania, </a:t>
            </a: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</a:rPr>
              <a:t>Teredo wood,</a:t>
            </a: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 3/22/2012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www.texaspaleo.com/psa/fossilmani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286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The state rock for north Dakota is Teredo 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50000">
              <a:srgbClr val="000000"/>
            </a:gs>
            <a:gs pos="100000">
              <a:srgbClr val="8c3d9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All images Copyright © 1997 - 2000 WriteLine. All Rights Reserved. Wind Canyon cliffs"/>
          <p:cNvPicPr/>
          <p:nvPr/>
        </p:nvPicPr>
        <p:blipFill>
          <a:blip r:embed="rId1"/>
          <a:stretch/>
        </p:blipFill>
        <p:spPr>
          <a:xfrm>
            <a:off x="1219320" y="990720"/>
            <a:ext cx="6019560" cy="4012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525780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Postcards from, </a:t>
            </a: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</a:rPr>
              <a:t>North Dakota</a:t>
            </a: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,3/22/20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ttp://www.postcardsfrom.com/t1/98082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This is the Missouri river, a great place for buffalos to ge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6:34Z</dcterms:created>
  <dc:creator>install</dc:creator>
  <dc:description/>
  <dc:language>en-US</dc:language>
  <cp:lastModifiedBy>install</cp:lastModifiedBy>
  <dcterms:modified xsi:type="dcterms:W3CDTF">2012-04-16T13:04:39Z</dcterms:modified>
  <cp:revision>15</cp:revision>
  <dc:subject/>
  <dc:title>Slide 1</dc:title>
</cp:coreProperties>
</file>